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4A3-1F2B-4339-B8C4-FBFD7CF9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1E0-0BEF-4579-9641-501D4469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184B9-0A96-433B-922E-1B6E1D98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B2009-1E47-46AB-9D4F-A60FB901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A9A68-52D0-421D-B358-9AAC9B12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F9A0F-FD77-4A18-A020-1C10F5F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8968B-1160-4236-9BC4-7F60BE29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25023-09C5-410E-A599-7BC11191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D5DB4-D5E8-4D1D-9908-7A6D5610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14F56-B963-464F-9E1E-20EEAC66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BB208-1A69-4ECC-93C0-0F4FEA25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F2B3D-70A4-4F01-8C38-F013C4D2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525-D706-48AA-A8DD-9F1F68F6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507ED-1CFF-4A3D-9AD7-3FD30307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5F1B3-754A-474A-BC1A-0C8BD566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87EDD-C70D-42ED-8141-FD4A3D1F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433E0-961F-44B7-B6D5-8B9B9864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C7496-E976-4E9E-AF69-6758FB9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0B362-21A4-4769-8043-E222915A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674B1-EB69-4A49-83FC-E52D36F9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53727-F541-4639-9B8F-6310471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60B88-8989-4C5B-B605-15730ACA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F8B42-4469-46D7-ACD9-5C5DD3D9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577-13B1-469E-B70C-0485E258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E8BAD-CDFF-4F1D-8D30-C3B37875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0BB7A-6B35-41B0-985D-AD21B45C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E0565-2F42-4707-A687-D87BF3FA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A9BA8-B456-4658-A088-3A6E2512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B42E3-D814-4E11-A58A-4834649F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FCAF5-551A-4D8E-8A9F-96191963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C2E08-F918-47F5-8B95-F5CC5C1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6D45C-AF3E-4DE0-BB05-2B55A15E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86848-FA18-4A8C-9794-FE012F0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7C435-2708-45D8-9E0C-80B4D75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88D8-6665-4B50-93E7-F6C57903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2A1FB-617E-4905-A66A-FF94869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4BAB3-F888-494D-8A15-C2FA1DFC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77289-EBD4-40C1-8F6B-13DD70C6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31019-CC8D-4EB9-BD2C-827C6C51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91E14-4225-4711-B38D-908367EE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6C1D5-34B0-46A6-A8EA-A920E799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2BFF7-F7A9-47EB-836C-4735ED3D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FB370-2CA6-473C-8290-B6B33D28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CB33D-2A55-48DB-BAAA-BB711048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95FA6-DD66-4CF4-A4C6-529E34B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0BA2-6DD9-484F-80AB-CF640BCC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52DE6-491D-4FA8-B95F-60CA161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E03E9-EAF8-4B30-A3AB-7BD72E8B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326FA-76D4-4A21-B030-E5D83B8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51F4A-E72A-4E58-B002-9984BB24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FE3D5-8DFB-4088-88D4-8E57B1BC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3278-CAA6-4104-8AE8-315B9319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B2D1-329B-4BB7-9F34-7314C062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5C53-056A-47F8-B194-91F5098D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CCE8-495A-4D6E-BFEE-3B461269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4E55-168E-4F44-8141-DD1A1B5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D86-8D7E-44A9-A030-D57153E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86DE-4414-439B-92A2-734D9ED1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2388-C866-407B-B65A-BA48D2A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F72F-BBE0-4C1D-BD79-36961F45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7E2E-7263-409B-A236-201EDC63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9BC3-2856-4EBF-956C-2F3144F5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BE50-9CE4-48CB-8FD4-9B277C97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6DB8-7B99-4E3B-8FDA-6EEB984F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7933-9EC8-4330-83F4-111EA11C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834B-E088-4ACB-B789-0F929003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8B7A-3B8E-44D9-8AA3-7E422AC2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104-B972-431D-9D7F-53055ED4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8047-B0A8-4C72-830A-0901B883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36FA-3388-4C7E-929A-2390EEB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4047-8CE9-4438-B1BA-86D97E3D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C649-3306-43AE-9B4A-7A13D23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4618-B19E-4F86-ADB0-D071A9F4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F1D6-1C7E-4481-920E-CBC488F8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2154-C77A-448C-ABF9-11E849D5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B6ABB-71BE-4EC7-954C-905A6446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39C7-A738-4A00-9A15-3ED3FDA8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254AE-3ECF-464B-8069-8FCD672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9E5-7A12-48BB-B2AD-18241358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2025-4376-4B5A-8F6F-A196E12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7F82-AF2A-4CF8-A1F3-C120F9B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3A2D-E1E1-4C33-9074-90C856CD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817C7-7509-4C0B-861F-EEB80FF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30732-D516-4C2D-9B4F-D70167F8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FC2E8-455A-417A-803F-85ADE2DA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E531-F4C4-457C-80EB-C602599A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B316-EE6A-44B1-AAC4-7E39B76A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F64F6-EF03-4CCB-966A-65C69B4F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1D274-6AD2-4DC5-9946-E3B62499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E57-F15E-40C1-AA82-66C50C0F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C732-1F27-4EBF-AC7D-5818F75B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0DA8-AEE0-4DE2-B67B-2927068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0159-DAF7-41AB-9535-AE93FD60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A238-ED76-414A-AB51-6F97809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3938-6FDA-49E7-9C46-6D7B06AE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85F40-8A3E-46D6-B718-C8341D7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03F2-F29C-4CF4-A80C-7BF9676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9D82-A3EF-49ED-91C3-EB6AB664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07899-9E5A-4124-B0D2-734A1700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D74F-F5B9-4381-8E99-909CB732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BD7-A2ED-4C23-B7E5-BF0331E9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D5DB-3E64-4736-90ED-FBD4D85B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BEA05-878F-41F5-B19D-41AB8111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ED10D-0CA1-4862-AB46-281F27C1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004D-B8B5-4C44-9675-72F87AB2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D1A5B-FE4D-407A-BB48-63BADCE2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8415A-B5CD-42A6-8C76-FAC7171F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8CC0-42EF-4C1D-B486-38A07F8A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24643-90B8-47B1-B652-924E939D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D156-3410-4D5D-8464-8DCBA26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06146-3067-47D3-BD02-7734FB87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26F-CC51-491F-BC13-9E33953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9294C-35EB-4A62-9204-2A45CC0C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48EA-80E0-4630-84E3-173B9AAB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1EEAF-D65E-4375-BBEE-6DCC783B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CFA3-61AA-4B5E-8E52-B4739AD3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3D4DB-0826-4285-BD15-0BE20A21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0FC66-DB37-4312-933E-BC3365B7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5D2B2-C815-4B79-ACD7-41D7915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330D4-756B-4BC3-B1E4-5B66C244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9722B-B6EC-40F2-887B-01B10537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0B08-2E39-407F-948C-8EBC9879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0F3-0EEE-4AE6-87E7-1E7993B3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59843-B58B-4CCB-AEDC-BDA8C58A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79B2F-6CFB-45F3-946E-9A5282E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969A7-6D47-4713-87BC-7099E17C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43C1E-EF3B-4572-A7C5-205203DD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19220-AA47-440F-8D71-EB363F01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5E5C7-AEA8-489D-A186-5E131BD6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615A2-AE63-4F82-999F-685A7230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7B9B3-5DB3-4748-A5A9-0FAD94C2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CB45B-0A78-4677-9485-DF911F52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31CE2-62F9-4307-8F49-7D58574A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462-76DB-4993-A9AC-51BB8BA5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01472-E18B-425C-BDA7-AC773F09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451EA-05CA-4908-B5CF-CF3FDC58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E3381-9F19-4916-AFF6-E9CF90DA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5B02C-B192-46AE-ACF1-4F07A7A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769E7-9EE8-4AE3-9321-7275E40B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D2F0-B605-4995-82E9-90F7ABD7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30EAD-46EB-42AE-9006-CC2C6BC5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7DA29-5E8E-4F0B-B11C-ACD1EE29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DC5BB-E80D-4963-AA36-F9F6FDEA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360C3-A3AB-48B6-8D56-F2F3BF14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9059-DDC4-4EF9-816C-05E3653380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A63A-561A-4A86-B6B0-D204A834E2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2D9A-18A3-4306-BC0F-ECBD14B982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EF4F-C616-44B4-84AB-04E53B8669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0488-03E1-4E70-9399-4E2A3739A3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5E4A-48F5-40B0-808D-A69D446493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8B40-F89D-4185-A9A5-0A33E8D499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7B1-D0BD-4A75-8534-2F8340B387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9AA0-F086-43F6-B742-2ECFBCC1E4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79C4-4CDD-4063-8C7A-0B0B234A43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1302-A4AB-4952-A0BD-3A83E3E404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DC00-36EA-4D1E-88D5-8668041BAC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9 Veď ma, svätý Hospod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ma, svätý Hospodi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úšťou sveta k výši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som slabý, ty si moc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nnou Slova, mannou Slo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lebom z neba sýť ma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lebom z neba sýť ma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štáľovej vody pram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vor, prosím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 na ceste do Kaná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hnivý stĺp svieť mi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ný Vodca, mocný Vod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boku mi stále st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boku mi stále st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Izrael cez Jord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mám brodo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úšok prej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pomoc očak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spodine, ráč ma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tam v cieli, raz tam v cie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m ti vrúcnu vďaku,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m ti vrúcnu vďaku, če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02:02Z</dcterms:modified>
  <cp:revision>14</cp:revision>
  <dc:subject/>
  <dc:title>Je veľký náš Pán, on slávy je Kráľ Nech do všetkých strán  spev vrúcnych znie chvál.</dc:title>
</cp:coreProperties>
</file>